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590-A486-4428-8405-DE30FA70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888-FC30-4D96-85B4-DE55A46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FF2-5A79-44D7-8684-A7A8DBD6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FCA-B1A5-4284-B353-8917FA32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9D1-F201-4A91-852F-A8B32757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6E0-DA18-40D6-9864-F0F16F3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6C7-0FD4-4CE3-870E-F66E76E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633-57B2-4A43-B130-92B00746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450-A509-467E-A82C-E817A67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A74-AE29-4320-B759-DE7701A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C83-5E8E-4F89-AD99-EF08585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5A1-EF6B-428A-8383-01BBBB7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D752-07C6-4A30-B7B8-217F20AA4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7:55:33Z</dcterms:created>
  <dc:creator>jshelton</dc:creator>
  <dc:description/>
  <dc:language>en-US</dc:language>
  <cp:lastModifiedBy>jshelton</cp:lastModifiedBy>
  <dcterms:modified xsi:type="dcterms:W3CDTF">2010-01-05T17:56:31Z</dcterms:modified>
  <cp:revision>1</cp:revision>
  <dc:subject/>
  <dc:title>Slide 1</dc:title>
</cp:coreProperties>
</file>